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54B-B8CD-4871-B828-DF7C36C5D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sxc.hu/photo/253109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letta, José A.  (2005, February 7).  At school 2.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ock Xchng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ieved June 7, 2012,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xc.hu/photo/2531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845-960B-4021-BB46-40176CB9FBB3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E4BF-5A3E-4210-AE38-5773F790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2126-BB24-4798-94AB-65578EE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5342-0884-48EB-8574-5E453C69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72E6-2F7C-452B-BFFA-6A3C6416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6BE6-F447-41EB-B78E-B27C240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7322-6BE0-4C85-8CDF-92E3198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29C1-FEE3-4EF2-BE0C-6B4E2572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3CB7-8CA0-4ACC-8398-4F38446B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0901-F804-4869-A488-8CDE764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8E88-3DA2-4426-BA50-A5FFC8D5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D1D3-EC26-45C6-871B-F3B615DF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3A9-9923-4B8F-A3C5-DB5CC0C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225-A253-48AE-A692-BF22206470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ómo diseñar objetivos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de aprendizaje en unidades temáticas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y cómo verificar su logro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Dr. Blair Batem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Brigham Young Univer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27432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Culturale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 productos, las prácticas y las perspectivas culturales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compare and contrast eating habits in Spain and the U.S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discuss the cultural perspectives associated with the </a:t>
            </a:r>
            <a:r>
              <a:rPr b="0" i="1" lang="en-US" sz="2800" spc="-1" strike="noStrike">
                <a:solidFill>
                  <a:srgbClr val="2f2b20"/>
                </a:solidFill>
                <a:latin typeface="Calibri"/>
              </a:rPr>
              <a:t>Día de los muerto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n Mexico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8" name="Picture 2" descr="C:\Users\chericem\AppData\Local\Microsoft\Windows\Temporary Internet Files\Content.IE5\139ABM5S\MC900098075[1].wmf"/>
          <p:cNvPicPr/>
          <p:nvPr/>
        </p:nvPicPr>
        <p:blipFill>
          <a:blip r:embed="rId1"/>
          <a:stretch/>
        </p:blipFill>
        <p:spPr>
          <a:xfrm>
            <a:off x="5867280" y="5257800"/>
            <a:ext cx="1812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280" y="217440"/>
            <a:ext cx="87631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La evaluación del aprendizaj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599840"/>
            <a:ext cx="647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La evaluación eficaz . . 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ncuerda con los objetivos de la lección o unidad, permitiendo verificar si se han cumplido los objetivos propuestos (es decir, si los estudiantes han aprendido lo que se pretendía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3657600" cy="232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343400" y="64771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Image:  José A. Warletta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Tipos de evaluación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1644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Ejemplos de evaluació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Objetiv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use the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yo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m of regular present tense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verbs to tell what they do in their free tim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correctly write down the phone numbers that callers left on a Spanish answering machin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describe the tradition of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sing key vocabulary such as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peregrinos, posada, villancicos, piñata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Evaluació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bserve students as they describe their free-time activities to their partn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erify that students wrote down the phone numbers correctl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ve students write a paragraph about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sing the vocabulary words listed; give points for content and correct use of vocabular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Listas (checklists)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rueban si los estudiantes pueden hacer o han hecho algo (“sí / no”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3048120"/>
          <a:ext cx="7315200" cy="2860560"/>
        </p:xfrm>
        <a:graphic>
          <a:graphicData uri="http://schemas.openxmlformats.org/drawingml/2006/table">
            <a:tbl>
              <a:tblPr/>
              <a:tblGrid>
                <a:gridCol w="6095880"/>
                <a:gridCol w="609480"/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ells interviewee’s gender, age, birthplace, and occupati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lains how and when interviewee immigrated to Utah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escribes at least one challenge the interviewee fa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escribes how interviewee maintains a connection to his/her cultu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peaks for a minimum of 3 minutes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rns in written version of interview summary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>
            <a:off x="1066680" y="25146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Exemplo: Entrevista con una persona hispánica en Uta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Matrices de valoración (rúbricas)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1426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specifican los criterios a evaluar al llevar a cabo una tar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Utilizan una gama para medir el rendimiento de los alumnos en cada criteri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Especifican lo que constituye un desempeño excelente en cada criterio (y en algunos casos, un nivel medio e inferior de rendimiento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3505320"/>
          <a:ext cx="6933960" cy="3017880"/>
        </p:xfrm>
        <a:graphic>
          <a:graphicData uri="http://schemas.openxmlformats.org/drawingml/2006/table">
            <a:tbl>
              <a:tblPr/>
              <a:tblGrid>
                <a:gridCol w="4647960"/>
                <a:gridCol w="228600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úbrica para examen ora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or               Excell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nunciation: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Correct sounds; stress on correct syllables; acceptable acc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ocabulary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rrect use of words and expressions for tas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rammar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rrect use of language rules studied so fa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ask Performance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verall ability to accomplish tas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8520" y="304920"/>
            <a:ext cx="8852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9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57200" y="1981080"/>
            <a:ext cx="7543800" cy="373392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Objetivos: </a:t>
            </a:r>
            <a:br>
              <a:rPr sz="3200"/>
            </a:b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Ejemplos buenos y no tan buen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Objectiv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ell work: Fill-in-the-blank handout on reflexive verb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rrect bell wor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xplain reciprocal reflexive  p. 119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ctivities A &amp; B p. 120 in pai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Game: Piccionario w/vocab from chap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20760" y="3578400"/>
            <a:ext cx="7559640" cy="236196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1040" y="1523880"/>
            <a:ext cx="7543800" cy="175284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Objetivos: </a:t>
            </a:r>
            <a:br>
              <a:rPr sz="3200"/>
            </a:b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Ejemplos buenos y no tan buen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Objectiv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amiliarize students with food products in Argentina, the way their supermarkets are set up, and the way prices are writt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11040" y="3657600"/>
            <a:ext cx="754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Objectives: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Students will be able to . . 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 and interpret two authentic Argentine webs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ist typical products in an Argentine supermarke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pare Argentine products with those sold in U.S. supermark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rite prices correctly in Span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monstrate understanding of advertising used by Argentine supermarkets by producing their own supermarket advertis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Objetivos buenos…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6370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2f2b20"/>
                </a:solidFill>
                <a:uFillTx/>
                <a:latin typeface="Calibri"/>
              </a:rPr>
              <a:t>No tan bueno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Learn the present tense of regular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verbs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Practice listening comprension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Watch a video about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in Mexico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61144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2f2b20"/>
                </a:solidFill>
                <a:uFillTx/>
                <a:latin typeface="Calibri"/>
              </a:rPr>
              <a:t>Mejor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use the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yo 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form of regular present tense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verbs to tell what they do in their free time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correctly write down the phone numbers that callers left on a Spanish answering machine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describe the tradition of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using key vocabulary such as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peregrinos, posada, villancicos, piñata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57200" y="1066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Especifican lo que los estudiantes deben saber y ser capaces de hacer al final de la lecció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Son lo suficientemente específicos para poder evaluar fácilmente lo bien que se han logrado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6091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De </a:t>
            </a:r>
            <a:r>
              <a:rPr b="1" i="1" lang="en-US" sz="2800" spc="-1" strike="noStrike">
                <a:solidFill>
                  <a:srgbClr val="2f2b20"/>
                </a:solidFill>
                <a:latin typeface="Calibri"/>
              </a:rPr>
              <a:t>Las aventuras de Alice en el país de las maravilla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Puss, would you tell me, please, which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ay I ought to go from her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at depends a good deal on where you want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t to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on’t much care where—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n it doesn’t matter which way you go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—so long as I get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somewher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h, you’re sure to do that, if you only walk lo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oug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Tipos de objetivo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2133720"/>
            <a:ext cx="7772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comunicativo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lingüístico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de contenido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cultural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Comunicativo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as tareas o funciones linguísticas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order a meal in a restaurant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describe their morning routine as they prepare for school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792760" y="4952880"/>
            <a:ext cx="2360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Lingüístico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 conceptos gramaticales y el vocabulario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give affirmative and negative commands in the </a:t>
            </a:r>
            <a:r>
              <a:rPr b="0" i="1" lang="en-US" sz="2800" spc="-1" strike="noStrike">
                <a:solidFill>
                  <a:srgbClr val="2f2b20"/>
                </a:solidFill>
                <a:latin typeface="Calibri"/>
              </a:rPr>
              <a:t>tú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form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use the preterite and imperfect to relate a humorous experience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de Contenido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l material académico o temático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locate the countries of Central America on a map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identify animals that live in the rain forest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3" descr="C:\Users\chericem\AppData\Local\Microsoft\Windows\Temporary Internet Files\Content.IE5\139ABM5S\MC900013467[1].wmf"/>
          <p:cNvPicPr/>
          <p:nvPr/>
        </p:nvPicPr>
        <p:blipFill>
          <a:blip r:embed="rId1"/>
          <a:stretch/>
        </p:blipFill>
        <p:spPr>
          <a:xfrm>
            <a:off x="6858000" y="5181480"/>
            <a:ext cx="1096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0:03:05Z</dcterms:created>
  <dc:creator>Windows User</dc:creator>
  <dc:description/>
  <dc:language>en-US</dc:language>
  <cp:lastModifiedBy>Windows User</cp:lastModifiedBy>
  <dcterms:modified xsi:type="dcterms:W3CDTF">2012-06-07T22:17:21Z</dcterms:modified>
  <cp:revision>40</cp:revision>
  <dc:subject/>
  <dc:title>PowerPoint Presentation</dc:title>
</cp:coreProperties>
</file>